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A0A-9DB0-4AE7-98FD-CA478C66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AC9-5670-440A-A1A3-1E6CB59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BC3-D4E0-4303-B82B-55231C7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DB0-E860-481E-86E9-6341BA00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845-56EB-4F58-8E26-59CC4F2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662-9715-4B95-B9B4-E42E71A7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51C-6DBE-497C-B903-9D874F1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804-E332-412C-AC78-59BE083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CEF-6BBD-4260-B512-BDDD5E14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8B2-D3AA-4E76-927E-3FA3073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936-F712-49E4-939C-2530BFE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DD6-F86C-419B-8767-A1103C9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C34B-347A-4321-BDB2-CB8F0FE03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5/Rosaparks_fingerprints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en/5/57/Rosa_Parks_Booking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d/Rosa_Parks_Old_GM_Bus_serial_number_1132_interior_No_285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eptember_9" TargetMode="External"/><Relationship Id="rId2" Type="http://schemas.openxmlformats.org/officeDocument/2006/relationships/hyperlink" Target="http://en.wikipedia.org/wiki/1996" TargetMode="External"/><Relationship Id="rId3" Type="http://schemas.openxmlformats.org/officeDocument/2006/relationships/hyperlink" Target="http://en.wikipedia.org/wiki/Presidential_Medal_of_Freedo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40328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549360"/>
            <a:ext cx="6005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sa Louise Mc Cauley Par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5084640"/>
            <a:ext cx="856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Mother of the modern-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ivil Right Movement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03640" y="765000"/>
            <a:ext cx="2657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graphy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440000" y="1628640"/>
            <a:ext cx="770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R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bruary 4,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uskegee,Ala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ctober 24, 2005( aged 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troit, Michi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F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ks became famous for refusing to obey bu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iverJame blake's order that she give up her seat to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ke room for a white passen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Parks refused to give up her seat, a police office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rested 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Image:Rosaparks fingerpri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33360"/>
            <a:ext cx="4176720" cy="540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Image:Rosa Parks Book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89000"/>
            <a:ext cx="4419720" cy="570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4520" y="609228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oking photo of Rosa Par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62160" y="609228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ingerprint card of Rosa Par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67560" cy="526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9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puty Sheriff D.H. Lackey fingerprints Parks d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r February 22, 1956 indictment for organizing a boyc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5157360"/>
            <a:ext cx="86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 this period, black and white people were segregated in virtually every aspect of daily life in the South, including public transportation. Bus and train companies d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t provide separate vehicles for the different races but did enforce s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olicies that allocated separate sections for blacks and wh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3376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19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Image:Rosa Parks Old GM Bus serial number 1132 interior No 285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7620120" cy="5095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6595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ior of The No. 2857 bus which Rosa Parks was riding on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1760" y="333000"/>
            <a:ext cx="72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ptember 9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96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President Bill Clinton presented Parks with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idential Medal of Freed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the highest honor given by the U.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ecutive bran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Rosa Louise McCauley Parks in 1979.jpg"/>
          <p:cNvPicPr/>
          <p:nvPr/>
        </p:nvPicPr>
        <p:blipFill>
          <a:blip r:embed="rId4"/>
          <a:stretch/>
        </p:blipFill>
        <p:spPr>
          <a:xfrm>
            <a:off x="250920" y="1197000"/>
            <a:ext cx="38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Image:RosaParks-BillClinton.jpg"/>
          <p:cNvPicPr/>
          <p:nvPr/>
        </p:nvPicPr>
        <p:blipFill>
          <a:blip r:embed="rId5"/>
          <a:stretch/>
        </p:blipFill>
        <p:spPr>
          <a:xfrm>
            <a:off x="4356000" y="1484280"/>
            <a:ext cx="4319640" cy="343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140360" y="522936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49120" y="5659920"/>
            <a:ext cx="32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osa Pa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ngressional Gold Med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94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osa Parks and U.S. President Bill Cli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9:48Z</dcterms:created>
  <dc:creator>Alumno58</dc:creator>
  <dc:description/>
  <dc:language>en-US</dc:language>
  <cp:lastModifiedBy>Alumno58</cp:lastModifiedBy>
  <dcterms:modified xsi:type="dcterms:W3CDTF">2008-05-28T09:04:18Z</dcterms:modified>
  <cp:revision>3</cp:revision>
  <dc:subject/>
  <dc:title>Diapositiva 1</dc:title>
</cp:coreProperties>
</file>